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DC7E-AA89-48CE-B384-445B1429C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E93B-103F-41E2-A310-63AFF9C2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056C-A40B-454E-B9F1-80BD4A9C2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5914-44DF-4A8F-A215-471EE9CD0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1409F-56D5-4BDD-B205-58D02C7CA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FFE23-217D-4649-BC37-B7F750BE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BF1E0-4EB2-4F2C-98D7-B9A85B3E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CBA39-9C02-4C25-A402-CC2DD379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D389C-5BBC-4BF1-96A4-CFE65178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B104B-A803-41B0-84DE-8AD21225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8B1EB-ECC4-4CD3-A87B-BD0B9147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CF37-097C-40A5-BC1D-ADB4F6A0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E96FB-9BF8-4710-82D6-36A50A50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0AF48-6492-4918-8D90-D57C15F1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2E797-5D56-4A69-B35B-D35308EC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EA744-3FFE-4A3B-B0A2-03E0707C8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3872C-2D97-439E-93EC-3E4187248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4518-A607-401E-A7EA-B641829C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3AEC-92A3-42E2-A985-E040CAD7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ED46-4BC6-4CC3-804C-8D71701A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A8CD-EA96-41A8-A75F-09158037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4FA5-D4D3-4D50-9DD6-809D6E96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F680-CE37-420C-BFD6-0B35B732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6A57-E516-45C2-8541-70066032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8B9A-6A25-4300-B0D1-ECFB3F776F89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102D-5392-4593-B4D3-4B972ECD4B12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00000" y="1557360"/>
            <a:ext cx="741708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2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AS 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المخــزون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932360" y="2852640"/>
            <a:ext cx="50472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76720" y="1197000"/>
            <a:ext cx="36100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صافى القيمة البيع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013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عادة ما يتم تخفيض قيمة المخزون إلى صافى قيمته البيعية على أساس كل بند على حد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قد يكون مناسباً تجميع البنود المتجانسة أو المتعلقة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ببعضها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فى مجموعا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عتمد تقدير صافى القيمة البيعية على الدلائل المتاحة التى يمكن أن يعتد بها وقت إعداد هذا التقدير والتى يكون من المتوقع أن تحققها بنود المخزو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03280" y="549360"/>
            <a:ext cx="3683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تحميل على المصروف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6268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حمل القيمة الدفترية للمخزون المباع كمصروف فى الفترة التى تحقق فيها الإيراد الناتج عن البي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268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جب معالجة قيمة أى رد لأى تخفيض فى قيمة المخزون الناشئ عن الزيادة فى صافى قيمته البيعية كتخفيض فى تكلفة المخزون المباع فى الفترة التى تم الرد في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268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قد تستخدم بعض بنود المخزون فى إنشاء أصول ثابتة وعندئذ تحمل تكلفة هذه البنود على حسابات هذه الأصول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03640" y="333000"/>
            <a:ext cx="18939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ff00"/>
                </a:solidFill>
                <a:uFillTx/>
                <a:latin typeface="Arial"/>
              </a:rPr>
              <a:t>الإفصــــاح</a:t>
            </a:r>
            <a:r>
              <a:rPr b="0" lang="ar-EG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991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61160" indent="0" algn="r" rtl="1">
              <a:lnSpc>
                <a:spcPct val="90000"/>
              </a:lnSpc>
              <a:spcBef>
                <a:spcPts val="901"/>
              </a:spcBef>
              <a:spcAft>
                <a:spcPts val="20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</a:rPr>
              <a:t>يجب أن تفصح القوائم المالية عن الآتي</a:t>
            </a: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1160" indent="-46116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سياسات المحاسبية المتبعة عند قياس قيمة المخزون بما فى ذلك الطريقة المستخدمة لحساب التكلفة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160" indent="-46116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ى تغيير فى السياسات المحاسبية المتعلقة بالمخزون والأسباب الضرورية لهذا التعديل وأثر هذا التعديل فى الفترة الجارية والفترات السابق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160" indent="-46116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إجمالى القيمة الدفترية للمخزون مبوبة تبويباً مناسباً يتفق مع طبيعة نشاط المنشأ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160" indent="-46116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قيمة الدفترية للمخزون بصافى قيمته البيع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160" indent="-46116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قيمة المخزون المرهون كضمان الالتزاما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410920" y="2565360"/>
            <a:ext cx="490716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ff00"/>
                </a:solidFill>
                <a:latin typeface="Arial"/>
              </a:rPr>
              <a:t>حالات عمليــ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32720" y="475920"/>
            <a:ext cx="195408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مثال (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)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شترت شركة رولا مخزون فى أول يناي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بمبلغ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وف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كانت صافى القيمة البيعي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، وخلال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باعت الشركة المخزون بمبلغ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وفقاً لما سبق، أى من البيانات التالية صحيحاً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  - قيمة المخزون الظاهرة فى الميزانية ف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ه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ب- قيمة المخزون الظاهرة فى الميزانية ف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ه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جـ- عند بيع المخزون فى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فإن ما يظهر فى قائمة الدخل كمكسب هو مبلغ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 - فى السنة المالية المنتهية ف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فإن الشركة اعترفت بخسارة قدرها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فى قائمة الدخ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حــــل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just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الخيار (د) هو الصحيح،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حيث تتطلب معايير المحاسبة المصرية أن يتم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تقييم المخزون آخر المدة بالتكلفة أو صافى القيمة البيعية أيهما أقل، وينبغى على الشركة الاعتراف بخسارة قدرها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(عبارة عن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) فى قائمة الدخل عن سن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وعند بيع المخزون فى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ينبغى الاعتراف بربح قدره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) يعترف بها فى قائمة الدخ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just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الخيار ( أ ) غير صحيح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، لانه يجب تخفيض المخزون الى القيمة السوقية فى نهاية السن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just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الخيار (ب) غير صحيح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، لان واقع أن المخزون تم بيعه بمبلغ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جنيه مصرى فى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ليس له تأثير على رصيد المخزون فى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just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الخيار (ج) غير صحيح،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حيث أن بيع المخزون بمبلغ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يجب مقارنته بقيمة المخزون ف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والذى كان القيمة الاقل من التكلفة أو صافى القيمة البيعية أى النتيجة تحقيق مكسب قدره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عبارة عن (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ثـال (</a:t>
            </a: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2</a:t>
            </a: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)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9152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فيما يلى بعض المعلومات المتعلقة بشركة الياسمين عن سن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547640" y="2060640"/>
          <a:ext cx="6991560" cy="2070000"/>
        </p:xfrm>
        <a:graphic>
          <a:graphicData uri="http://schemas.openxmlformats.org/drawingml/2006/table">
            <a:tbl>
              <a:tblPr/>
              <a:tblGrid>
                <a:gridCol w="2376720"/>
                <a:gridCol w="4614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00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00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جني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شتريات بغرض البي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00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رتجعات للبائ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00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وائد على الحسابات الدائن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00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صروفات شحن البضائ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755640" y="4508640"/>
            <a:ext cx="806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فإن تكلفة المخزون سوف تكون: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( أ )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297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جنيه     (ب)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جنيه      (ج)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304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جنيه     ( د)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316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جن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48000" y="333000"/>
            <a:ext cx="17384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حـــــل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3429000"/>
            <a:ext cx="836280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لخيار ( أ ) غير صحيح، لأن مصروفات الشحن يجب أن تدخل كجزء من تكلفة المخزو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just" rtl="1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لخيار (ب) غير صحيح، لأنه بالاضافة الى مشتريات البضاعة فإن البضاعة المرتجعة ومصروفات الشحن يجب إدخالهما ضمن الحساب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just" rtl="1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لخيار ( د) غير صحيح، لأن تكلفة الفائدة على التمويل لا تدخل ضمن تكلفة المخزون (إلا فى ظل إشتراطات معينة كما جاء فى المعيار المحاسبى المصرى رقم (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) والمتعلق بتكلفة الاقتراض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ffff00"/>
                </a:solidFill>
                <a:uFillTx/>
                <a:latin typeface="Arial"/>
              </a:rPr>
              <a:t>وتتلخص الاشتراطات فى: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أن يتطلب المخزون فترة زمنية طويلة لاعداده وبيعه مثل شركات الاستثمار العقارى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أن تكون تكلفة الاقتراض فعلية وليس افتراض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عدم استكمال الاصل بشكل جوهرى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763640" y="1268280"/>
          <a:ext cx="6918480" cy="1822680"/>
        </p:xfrm>
        <a:graphic>
          <a:graphicData uri="http://schemas.openxmlformats.org/drawingml/2006/table">
            <a:tbl>
              <a:tblPr/>
              <a:tblGrid>
                <a:gridCol w="2448000"/>
                <a:gridCol w="4470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شتريات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مصروفات الشح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-) مرتجعات للبائ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00</a:t>
                      </a:r>
                      <a:r>
                        <a:rPr b="1" lang="ar-EG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04</a:t>
                      </a:r>
                      <a:r>
                        <a:rPr b="1" lang="ar-EG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جني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31640" y="1341360"/>
            <a:ext cx="3024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حتويــــ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339640" y="2421000"/>
            <a:ext cx="4691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هدف المعي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تعريفـــ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المعالجة المحاسب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الافصا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حالات عمل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347640" y="2923920"/>
            <a:ext cx="259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هدف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280" y="1599840"/>
            <a:ext cx="793116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هدف هذا المعيار إلى شرح المعالجة المحاسبية للمخزو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وفر هذا المعيار إرشادا عملياً لتحديد التكلفة وما سيتتبع ذلك من الاعتراف بها كمصروفات بما فى ذلك أى تخفيض فى القيمة للوصول إلى صافى القيمة البيع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كما أنه يوفر إرشادات عن طرق حساب التكلفة التى تستخدم لتحميل التكاليف على المخزو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659280" y="691920"/>
            <a:ext cx="202716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هدف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59280" y="260280"/>
            <a:ext cx="2952720" cy="10598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المخزو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معيار المحاسبة المصرى رقم (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59640" y="1484280"/>
            <a:ext cx="2089080" cy="7855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أولا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تعريف المخزو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1484280"/>
            <a:ext cx="2089080" cy="10598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ثانيـا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قياس قيمة المخزو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1413000"/>
            <a:ext cx="2520720" cy="10598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ثالثـا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الافصاح عن المخزون فى القوائم المال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16360" y="105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835280" y="1197000"/>
            <a:ext cx="590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35280" y="1197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740720" y="1197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51280" y="2708280"/>
            <a:ext cx="2089080" cy="91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التكلفة أو صافة القيمة البيعية أيهما أق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43640" y="3789360"/>
            <a:ext cx="2089080" cy="3682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أ  - قياس التكلف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48000" y="3860640"/>
            <a:ext cx="2519280" cy="642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ب – قياس صافى القيمة البيع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860640"/>
            <a:ext cx="2773440" cy="11912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جـ- كيفية تطبيق طريقة التكلفة أو صافى القيمة البيعية أيهما أق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56360" y="4869000"/>
            <a:ext cx="2089080" cy="91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- تكلفة إقتناء أو الحصول على المخزو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32000" y="4869000"/>
            <a:ext cx="2521080" cy="91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- تكلفة المخزون والمنصرف خلال الفترة للانتاج أو البي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4869000"/>
            <a:ext cx="2089080" cy="91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- تكلفة المخزون المتبقى آخر الفتر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6197760"/>
            <a:ext cx="2089080" cy="91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1/1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 المنشآت التجارية والمواد الخا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11640" y="6124680"/>
            <a:ext cx="2089080" cy="642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1/2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 المنشآت الصناع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03280" y="6124680"/>
            <a:ext cx="2089080" cy="642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1/3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 المنشآت الخدم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618920" y="3645000"/>
            <a:ext cx="597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19280" y="364500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27640" y="364500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96360" y="364500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88000" y="3429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24720" y="429408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763280" y="4581360"/>
            <a:ext cx="576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63640" y="458136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3280" y="4581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276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67640" y="551664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339640" y="5805360"/>
            <a:ext cx="532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40000" y="580536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48360" y="5805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372000" y="404640"/>
            <a:ext cx="2314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عريفـــــــات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83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المخزون هو أصل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( أ )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محتفظ به بغرض البيع ضمن النشاط العادى للمنشأ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و (ب)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فى مرحلة الانتاج ليصبح قابلاً للبي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44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و (ج)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فى شكل مواد خام أو مهمات تستخدم فى مراحل الانتاج أو فى تقديم الخدمات.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5280" y="3068640"/>
            <a:ext cx="8280360" cy="39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صافى القيمة البيعية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سعر التقديرى للبيع من خلال  النشاط العادى ناقصاً التكلفة التقديرية للاتمام وكذلك أية تكلفة أخرى تستلزمها إتمام عملية البي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القيمة العادلة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هى القيمة التى يمكن بموجبها تبادل أصل أو تسوية التزام بين أطراف كل منهم لديه الرغبة فى التبادل وعلى بينة من الحقائق ويتعاملان بإرادة حر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340000" y="2707920"/>
            <a:ext cx="48960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ff00"/>
                </a:solidFill>
                <a:latin typeface="Arial"/>
              </a:rPr>
              <a:t>المعالجة المحاسبي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96000" y="1268280"/>
            <a:ext cx="28908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 u="sng">
                <a:solidFill>
                  <a:srgbClr val="ffff00"/>
                </a:solidFill>
                <a:uFillTx/>
                <a:latin typeface="Arial"/>
              </a:rPr>
              <a:t>حساب التكلفة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843588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71604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تحميل بنود المخزون المحددة بذاتها والمنتجات والخدمات التى يمكن فصلها ويتم ربطها بمشروعات معينة بعناصر التكاليف الخاصة بكل منها على حد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جب استخدام طريقة الوارد أولاً يصرف أولاً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 أو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طريقة المتوسط المرجح للتكلفة عند تحديد تكلفة المخزون فى الحالات الأخرى خلاف تلك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التى يتم فيها تحميل بنود المخزون المحددة بذاتها والمنتجات والخدمات التى يمكن فصلها ويتم ربطها بمشروعات معينة بعناصر التكاليف الخاصة بكل منها على حدة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651640" y="1052280"/>
            <a:ext cx="29620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صافى القيمة البيعية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قد لا يمكن استرداد تكلفة المخزون إذا ما تعرض للتلف أو التقادم الكلى أو الجزئى أو إذا انخفض سعر بيعه 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قد لا يمكن أيضاً استرداد تكلفة المخزون إذا زادت التكلفة التقديرية لإتمامه أو إذا زادت التكلفة التقديرية المتوقع تحملها لإتمام عملية البيع عن سعر بيعه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20:05:14Z</dcterms:created>
  <dc:creator>Eissa</dc:creator>
  <dc:description/>
  <dc:language>en-US</dc:language>
  <cp:lastModifiedBy>r.mansour</cp:lastModifiedBy>
  <dcterms:modified xsi:type="dcterms:W3CDTF">2006-12-11T13:26:42Z</dcterms:modified>
  <cp:revision>47</cp:revision>
  <dc:subject/>
  <dc:title>معيار المحاسبة المصرى رقم (14) تكلفة الاقتراض</dc:title>
</cp:coreProperties>
</file>